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F0E-BA62-4495-8C50-4E2A4935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3A1-0DB8-4C5B-B0C6-3974A491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EA940-59C4-4555-B740-61788D0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8FF3-27C8-4654-B198-8094F83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AED3-77A0-445B-85A5-8C2AB23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A9106-3EAA-4658-87EE-2C8CB8A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51A48-D696-4F5C-80A6-5B1D8E7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4586-7055-49F8-A18F-5196947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C8F15-156E-449D-97C4-4523BC5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3A482-564A-45DC-B16E-EA4D922F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EA7E1-5212-459F-817C-A32066E8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9B0B7-59DF-4F05-AA9B-F920E039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872-7792-4612-B1F5-9D55E932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AE14D-979E-4176-8667-97A725E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7E1FB-B00B-496E-9D0C-92E3C62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77F3E-9128-4412-B213-FBD4D21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192A-7595-48A2-AE6D-CFE4644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EAC4-E87B-4835-AB8C-E5A22AA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23763-1C18-4589-9D66-118FE9E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B315-FBB5-41DC-A2B0-2C759AC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2506A-555B-4DCC-872F-1C391E6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D6B42-5728-4DC3-8B58-16A8CB2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8F4D3-4DBE-4D28-B7C9-D5A5E6D8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A3B-192F-45C8-9236-A635416F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44853-FAD5-424B-83D3-E7F9B1CA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8E1B-9395-4C22-8142-3EDA889D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DEF8-139A-4A6D-8B34-072FA900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BC8-5343-402C-90CB-83D2D56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812-5A94-4487-8FC0-C24F620B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C2E-01A4-4986-A266-CE79EB16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6C65-9080-40E1-844C-C8376BC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6EB-BADC-456D-82DA-93DE6DC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86D-4622-4158-BAF9-DD17E73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39F5-4FBC-4C2B-869B-43D3B4D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98F5-C05C-4916-ABBA-7189BB76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4A25-7322-4A55-9F94-7654D096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F02-87C7-46E0-9312-269C4ED3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9B4D-0D59-4064-B4A6-1F90A62B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FF260-0F9C-4A81-B9C2-C5245C13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3490A-1E96-4D01-81E5-E55F399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F5EE8-4E4D-4116-A11A-3B0BB24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1E29A-CFC2-4A58-B5F2-5C5CB3F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8EF58-C644-4152-AA5C-CBDCDB52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DBF-6BB4-4D0F-97AB-4161817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F34F3-3385-4B48-9491-5F04E07C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CA383-0C49-467D-BB1C-E2DD1AD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48692-7F4E-450A-AF27-37B2F6B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C83E4-57DA-484F-89FA-8D273E7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5DBE3-BBDB-49DB-9025-1FE3BE3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9FC12-403E-4EFF-BFFA-936114FB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CB9BD-3EA9-4600-A50A-FF1BDAC2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08E8F-5489-492F-B323-172EBBB6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DEA19-CEE8-49E0-887C-448CD38A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8F359-D878-4A91-9FA1-49F7234F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264-D013-4E81-A132-04EFDA4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4B198-C817-4997-9993-56FC4CEB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D9199-57C8-4F3D-9FA2-8F802C3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44D21-116C-40B7-B591-6CAA2D8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40087-A32E-44FD-97C8-AB5094E4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9B687-9689-412E-AABC-9291E15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9AD94-B51B-421E-84BE-E49968C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33D56-1EDF-46F4-8E95-F0DCC6C8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1AB00-6DE6-4CD4-8148-6EDF3BD2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A19D1-1AD9-4AE2-AB1B-EC4FE4F9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3C602-6A63-4297-A405-97C038C5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DBB-3C02-495A-BD41-BD813B6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A5996-2FB5-494D-AC03-D977730D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AD37C-02AC-4F70-8FCB-88893C54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9AE75-2DA0-40EC-B8C5-01022370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F8BF2-4D9E-422F-B7F6-DA85CF70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ED593-CC15-427D-8538-EBB75CB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B060F-AA1E-491C-8F2F-02CF769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D85E7-24B0-4C03-BED6-A7D5B3FC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AD3E8-A3D9-4E4D-916B-1FF016A7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B4D5A-FF51-43F4-94FA-620C61D1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09567-CF88-4614-8481-515701EC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BBC-D29D-41CD-B833-8B5EEE12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3571F-013D-4408-837B-0CECD9E6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27D8-E491-469F-B5FC-13DBB0A8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C4C0-8E7E-48A6-8FC9-4A1DB995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7C80-2F77-4D71-B37A-491120E1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EAC6-1961-40A9-9309-C6339313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CAB6-0C2B-4EE3-988D-343580F3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C550-B77F-4092-A552-ABDEB20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275E-071C-4023-A7E5-8C25F70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502CE-2DD2-4A60-AFDE-12D307E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88EC-EBF5-4086-A633-9FA942F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814-A90F-44D8-B102-4A86692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04D1-2F46-4D3B-813A-1FC449A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FD49-9705-48DC-BD88-0F223359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CB08-9A3C-46A8-9A36-5A0B6C9C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FF6E4-5902-417D-BC03-FAB6FA82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8267A-28EC-44DC-97A2-325A8628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0AFBC-6639-45CF-9906-D357AC89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970B0-C308-4137-BC90-D9D64EA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F0B2D-6658-40E1-AAD0-46440CA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608BA-DE70-4E7E-8EA5-1C484ECE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10D8C-3B1B-424A-BC66-33606A6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699-32EC-48BF-8722-CB3FA2E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8B88C-737E-4C55-A1AA-E2920DF4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E9175-E384-4714-A9EC-EB5923C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8765D-DACE-46B5-B47F-266C2EE7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A55A0-43C2-48C5-B9DD-02EC0A9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709BA-CA2B-4182-AE3C-8A56F388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FF9D-718E-4754-B6BD-EF0ED2D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0A62-3C61-4338-94F9-772B11C0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1F6B-9046-472A-B953-051248E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104F4-94DE-4B49-A75E-648E07A1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763E-9CAC-4673-BDBC-E5BAF99A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348-BBAD-414E-A4A2-7BAA9B6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0C960-5B83-4015-9A27-B79E29A8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68195-A657-405C-B394-F27C303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B0A31-BA7C-4226-877F-290D47E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07FA-66C4-458F-88C4-20864FD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60EF5-8761-4C26-A8BD-F5EA5D1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60DA0-A52E-4132-8CA3-A5954609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4C311-A48E-4021-A67A-FA4B1B2E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DDCAD-8758-431D-8560-FE809951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487AA-713D-4B50-BC95-0B3EA05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DAECF-7254-4EC9-8EBC-383850B4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DF2-E8C0-4A6B-9F18-8E383C0979F9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764-24DB-4BA1-8554-760B949E82B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1D1F-4502-4CEA-9156-248173223541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84C2-8965-4E35-893C-1DAE6058D0C5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D08-32F5-4AE9-8C34-D3B3587D9BFB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1AB2-EEA6-4B72-91EB-5D787F76C23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E511-366A-4353-8137-3FDD6BE67C34}" type="slidenum">
              <a:rPr b="1" lang="pl-PL" sz="1400" spc="-1" strike="noStrike">
                <a:solidFill>
                  <a:srgbClr val="f4e7e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C421-579D-4494-9DF1-00497A2D7DB5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4e7e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4e7e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58EA-2711-439A-B0CE-07D04DE3A065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c66b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e6c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9b63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607D-9F58-4BF3-9A34-3E8DE17958A0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4e7ed"/>
                </a:solidFill>
                <a:latin typeface="Tw Cen MT"/>
              </a:rPr>
              <a:t>POZNAJEMY ŚWIAT DRZEW</a:t>
            </a:r>
            <a:endParaRPr b="0" lang="en-US" sz="5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54" name="Obraz 3" descr="Tree.jpg"/>
          <p:cNvPicPr/>
          <p:nvPr/>
        </p:nvPicPr>
        <p:blipFill>
          <a:blip r:embed="rId1"/>
          <a:stretch/>
        </p:blipFill>
        <p:spPr>
          <a:xfrm>
            <a:off x="1763640" y="2565360"/>
            <a:ext cx="5075280" cy="3807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3"/>
          <p:cNvSpPr txBox="1"/>
          <p:nvPr/>
        </p:nvSpPr>
        <p:spPr>
          <a:xfrm>
            <a:off x="1979640" y="333360"/>
            <a:ext cx="51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liści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Drzewa liściaste należą do roślin okrytozalążkowych. Funkcję asymilacyjną pełnią u nich liście. Organem służącym do rozmnażania jest kwiat.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17" name="Picture 24" descr="brzoza_brodawkowata"/>
          <p:cNvPicPr/>
          <p:nvPr/>
        </p:nvPicPr>
        <p:blipFill>
          <a:blip r:embed="rId3"/>
          <a:stretch/>
        </p:blipFill>
        <p:spPr>
          <a:xfrm>
            <a:off x="39528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8" name="Picture 27" descr="jabłoń_kw1"/>
          <p:cNvPicPr/>
          <p:nvPr/>
        </p:nvPicPr>
        <p:blipFill>
          <a:blip r:embed="rId4"/>
          <a:stretch/>
        </p:blipFill>
        <p:spPr>
          <a:xfrm>
            <a:off x="3251160" y="2133720"/>
            <a:ext cx="2641680" cy="198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19" name="Picture 30" descr="jarząb_pospolity"/>
          <p:cNvPicPr/>
          <p:nvPr/>
        </p:nvPicPr>
        <p:blipFill>
          <a:blip r:embed="rId5"/>
          <a:stretch/>
        </p:blipFill>
        <p:spPr>
          <a:xfrm>
            <a:off x="1547640" y="443700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0" name="Picture 31" descr="lipa_drobnolistna"/>
          <p:cNvPicPr/>
          <p:nvPr/>
        </p:nvPicPr>
        <p:blipFill>
          <a:blip r:embed="rId6"/>
          <a:stretch/>
        </p:blipFill>
        <p:spPr>
          <a:xfrm>
            <a:off x="6084720" y="2133720"/>
            <a:ext cx="266400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21" name="Picture 32" descr="Klon_jawor"/>
          <p:cNvPicPr/>
          <p:nvPr/>
        </p:nvPicPr>
        <p:blipFill>
          <a:blip r:embed="rId7"/>
          <a:stretch/>
        </p:blipFill>
        <p:spPr>
          <a:xfrm>
            <a:off x="4500720" y="4437000"/>
            <a:ext cx="2663640" cy="199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522" name="Text Box 35"/>
          <p:cNvSpPr/>
          <p:nvPr/>
        </p:nvSpPr>
        <p:spPr>
          <a:xfrm>
            <a:off x="5221440" y="645336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LON JAW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1996560" y="645336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RZĄB ZWYCZAJ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7"/>
          <p:cNvSpPr/>
          <p:nvPr/>
        </p:nvSpPr>
        <p:spPr>
          <a:xfrm>
            <a:off x="6456600" y="409104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LIPA DROBNOLIST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38"/>
          <p:cNvSpPr/>
          <p:nvPr/>
        </p:nvSpPr>
        <p:spPr>
          <a:xfrm>
            <a:off x="3679560" y="409104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BŁOŃ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39"/>
          <p:cNvSpPr/>
          <p:nvPr/>
        </p:nvSpPr>
        <p:spPr>
          <a:xfrm>
            <a:off x="596880" y="407664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BRZOZA BRODAWKOW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DRZEWA LIŚCIASTE…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liści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dęby i kasztany mają miękkie, spłaszczo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liści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Ich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są ukryte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ach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, które mogą być tward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żołędzie 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lub miękkie jak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jagody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Podczas zimna lub suszy wiele drzew liściastych zrzuca liści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Aby wytworzyć nasiona drzewa liściaste wykształc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kwiaty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Gdy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pyłek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z jednego kwiatu przedostanie się do drugiego kwiatu zaczynają się tworzyć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owoce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4e7ed"/>
                </a:solidFill>
                <a:latin typeface="Tw Cen MT"/>
              </a:rPr>
              <a:t>Z jakiego drzewa pochodzą te liście?</a:t>
            </a:r>
            <a:endParaRPr b="0" lang="en-US" sz="36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0" name="Object 5"/>
          <p:cNvGraphicFramePr/>
          <p:nvPr/>
        </p:nvGraphicFramePr>
        <p:xfrm>
          <a:off x="826920" y="2565360"/>
          <a:ext cx="743112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4311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rostokąt 5"/>
          <p:cNvSpPr/>
          <p:nvPr/>
        </p:nvSpPr>
        <p:spPr>
          <a:xfrm>
            <a:off x="104292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WIERZBA             BRZOZA                     DĄB                            LI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4560" y="33336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zyje to liście i owoce ?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graphicFrame>
        <p:nvGraphicFramePr>
          <p:cNvPr id="534" name="Object 4"/>
          <p:cNvGraphicFramePr/>
          <p:nvPr/>
        </p:nvGraphicFramePr>
        <p:xfrm>
          <a:off x="324000" y="2349360"/>
          <a:ext cx="82594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259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Znaczenie drzew dla człowieka i środowiska naturalnego</a:t>
            </a:r>
            <a:endParaRPr b="0" lang="en-US" sz="32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Znaczenie drzew w życiu codziennym człowieka: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Tereny rekreacyjne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zemysł meblowy i papierniczy, budownictwo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Źródło tlen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ształtowanie klimatu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Schronienie dla zwierząt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rodukcja materii organicznej,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Ochrona gleby przed erozją.      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DRZEWA MOGĄ BYĆ INSPIRACJĄ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540" name="Picture 6" descr="http://360puredesign.files.wordpress.com/2014/01/wieszak-2-e1362487090569.jpg"/>
          <p:cNvPicPr/>
          <p:nvPr/>
        </p:nvPicPr>
        <p:blipFill>
          <a:blip r:embed="rId1"/>
          <a:stretch/>
        </p:blipFill>
        <p:spPr>
          <a:xfrm>
            <a:off x="609480" y="1844640"/>
            <a:ext cx="3587760" cy="457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ttps://encrypted-tbn1.gstatic.com/images?q=tbn:ANd9GcRZaI7KOW_1hClg8amv0VeCJoXrlkMJ2C5sQy_cQCPL-L0crxKfIA"/>
          <p:cNvPicPr/>
          <p:nvPr/>
        </p:nvPicPr>
        <p:blipFill>
          <a:blip r:embed="rId2"/>
          <a:stretch/>
        </p:blipFill>
        <p:spPr>
          <a:xfrm>
            <a:off x="5864400" y="2641680"/>
            <a:ext cx="18475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4"/>
          <p:cNvGraphicFramePr/>
          <p:nvPr/>
        </p:nvGraphicFramePr>
        <p:xfrm>
          <a:off x="3132000" y="1268280"/>
          <a:ext cx="556416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268280"/>
                    <a:ext cx="55641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AutoShape 7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8"/>
          <p:cNvSpPr txBox="1"/>
          <p:nvPr/>
        </p:nvSpPr>
        <p:spPr>
          <a:xfrm>
            <a:off x="2482920" y="406440"/>
            <a:ext cx="417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Lasy w Polsc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26880" y="1557360"/>
            <a:ext cx="273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W polskich lasach 87 drzew na sto to drzewa szpilkowe w monokulturach, czyli zbiorowiskach składających się z drzew jednego gatunku, równego wieku i podobnej wysokości. Występowanie takich drzewostanów oraz stan środowiska sprawiają, że należą one do najsilniej zagrożonych w Europie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Obok przedstawiono zalesienie i skład gatunkowy lasów w 1994 roku (wg danych IBL)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00"/>
                </a:solidFill>
                <a:latin typeface="Tw Cen MT"/>
              </a:rPr>
              <a:t>Lasy liściaste</a:t>
            </a: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c99"/>
                </a:solidFill>
                <a:latin typeface="Times New Roman"/>
              </a:rPr>
              <a:t>Las liściasty to ekosystem leśny z udziałem przede wszystkim drzew liściastych. Charakter lasu liściastego zmienia się w zależności od regionu geograficznego i klimatu. Lasy liściaste zrzucające liście na zimę spotyka się w strefie umiarkowanej, z wyraźnie zaznaczoną sezonowością i temperaturach poniżej zera w zimie i powyżej 12°C w lecie. Las liściasty strefy umiarkowanej charakteryzuje się stosunkowo bogatym runem, które rozwija się na wiosnę, gdy drzewa nie mają liści i światło może bez trudu penetrować głębsze warstwy lasu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w Cen MT"/>
              </a:rPr>
              <a:t>DRZEWA</a:t>
            </a:r>
            <a:endParaRPr b="0" lang="en-US" sz="66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w Cen MT"/>
              </a:rPr>
              <a:t>Drzewa są największymi i najdłużej żyjącymi roślinami. Niektóre żyją kilkaset lat, a najstarsze drzewo na świecie (sosna oścista znaleziona w Białych Górach w Arizonie) ma 4600 lat. Drzewa odgrywają ważną rolę w przyrodzie. Uczestniczą w utrzymaniu odpowiedniego stężenia gazów w atmosferze, a ich korzenie przytrzymują glebę i pobierają z niej wodę, którą następnie wydalają w postaci pary wodnej przez liście do atmosfery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w Cen MT"/>
              </a:rPr>
              <a:t>PODZIAŁ DRZEW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pic>
        <p:nvPicPr>
          <p:cNvPr id="465" name="Symbol zastępczy zawartości 5" descr=""/>
          <p:cNvPicPr/>
          <p:nvPr/>
        </p:nvPicPr>
        <p:blipFill>
          <a:blip r:embed="rId1"/>
          <a:stretch/>
        </p:blipFill>
        <p:spPr>
          <a:xfrm>
            <a:off x="615960" y="1573200"/>
            <a:ext cx="815004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6000" y="206676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Drzewa iglaste są bardziej prymitywne niż rośliny liściaste i starsze wiekiem. Należą do roślin nagozalążkowych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Ich charakterystycznym elementem są szpilki pełniące funkcję asymilacyjną oraz szyszki pełniące funkcję kwiatostanów i „nasionostanów”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w Cen MT"/>
              </a:rPr>
              <a:t>W odróżnieniu od roślin okrytonasiennych, rośliny iglaste są wyłącznie wiatropyln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67" name="Picture 6" descr="sosna1"/>
          <p:cNvPicPr/>
          <p:nvPr/>
        </p:nvPicPr>
        <p:blipFill>
          <a:blip r:embed="rId1"/>
          <a:stretch/>
        </p:blipFill>
        <p:spPr>
          <a:xfrm>
            <a:off x="6372360" y="162864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68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modrzew_europejski2"/>
          <p:cNvPicPr/>
          <p:nvPr/>
        </p:nvPicPr>
        <p:blipFill>
          <a:blip r:embed="rId4"/>
          <a:stretch/>
        </p:blipFill>
        <p:spPr>
          <a:xfrm>
            <a:off x="6372360" y="450864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471" name="Picture 12" descr="cyprys_wiecznie_zielony"/>
          <p:cNvPicPr/>
          <p:nvPr/>
        </p:nvPicPr>
        <p:blipFill>
          <a:blip r:embed="rId5"/>
          <a:stretch/>
        </p:blipFill>
        <p:spPr>
          <a:xfrm>
            <a:off x="5005440" y="320688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72" name="Text Box 16"/>
          <p:cNvSpPr/>
          <p:nvPr/>
        </p:nvSpPr>
        <p:spPr>
          <a:xfrm>
            <a:off x="6517440" y="616752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7484400" y="328464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4e7ed"/>
                </a:solidFill>
                <a:latin typeface="Tw Cen MT"/>
              </a:rPr>
              <a:t>CDN….</a:t>
            </a:r>
            <a:endParaRPr b="0" lang="en-US" sz="4400" spc="-1" strike="noStrike">
              <a:solidFill>
                <a:srgbClr val="f4e7ed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9280" y="178128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Drzewa iglaste,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takie jak jodła, mają liście pokryte woskiem, podobne w kształcie do igieł lub łuskowate, a ich nasiona znajdują się w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ach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Większość drzew iglastych jest wiecznie zielona, co oznacza, że nie zrzucają jednocześnie wszystkich igieł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 wiosnę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drzewa iglaste wytwarzają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szyszki.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 W nich są schowane </a:t>
            </a:r>
            <a:r>
              <a:rPr b="1" lang="pl-PL" sz="2900" spc="-1" strike="noStrike">
                <a:solidFill>
                  <a:srgbClr val="1c1c1c"/>
                </a:solidFill>
                <a:latin typeface="Tw Cen MT"/>
              </a:rPr>
              <a:t>nasiona</a:t>
            </a:r>
            <a:r>
              <a:rPr b="0" lang="pl-PL" sz="2900" spc="-1" strike="noStrike">
                <a:solidFill>
                  <a:srgbClr val="1c1c1c"/>
                </a:solidFill>
                <a:latin typeface="Tw Cen MT"/>
              </a:rPr>
              <a:t>. Szyszka wysycha i otwiera się gdy nasiona są dojrzałe.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ac66bb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7" name="Obraz 7" descr=""/>
          <p:cNvPicPr/>
          <p:nvPr/>
        </p:nvPicPr>
        <p:blipFill>
          <a:blip r:embed="rId1"/>
          <a:stretch/>
        </p:blipFill>
        <p:spPr>
          <a:xfrm>
            <a:off x="7020000" y="350028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POPULAR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79" name="Picture 3" descr="sosna1"/>
          <p:cNvPicPr/>
          <p:nvPr/>
        </p:nvPicPr>
        <p:blipFill>
          <a:blip r:embed="rId1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0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6" descr="modrzew_europejski2"/>
          <p:cNvPicPr/>
          <p:nvPr/>
        </p:nvPicPr>
        <p:blipFill>
          <a:blip r:embed="rId4"/>
          <a:stretch/>
        </p:blipFill>
        <p:spPr>
          <a:xfrm>
            <a:off x="324000" y="4030560"/>
            <a:ext cx="2160360" cy="16210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sp>
        <p:nvSpPr>
          <p:cNvPr id="483" name="Text Box 11"/>
          <p:cNvSpPr/>
          <p:nvPr/>
        </p:nvSpPr>
        <p:spPr>
          <a:xfrm>
            <a:off x="399240" y="5734080"/>
            <a:ext cx="20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MODRZEW EUROPE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059280" y="3573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KOSODRZEW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cis_pospolity"/>
          <p:cNvPicPr/>
          <p:nvPr/>
        </p:nvPicPr>
        <p:blipFill>
          <a:blip r:embed="rId5"/>
          <a:stretch/>
        </p:blipFill>
        <p:spPr>
          <a:xfrm>
            <a:off x="4932360" y="4040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7" name="Picture 15" descr="cis_pospolity2"/>
          <p:cNvPicPr/>
          <p:nvPr/>
        </p:nvPicPr>
        <p:blipFill>
          <a:blip r:embed="rId6"/>
          <a:stretch/>
        </p:blipFill>
        <p:spPr>
          <a:xfrm>
            <a:off x="7236000" y="1916280"/>
            <a:ext cx="1672920" cy="22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8" name="Picture 16" descr="kosodrzewina"/>
          <p:cNvPicPr/>
          <p:nvPr/>
        </p:nvPicPr>
        <p:blipFill>
          <a:blip r:embed="rId7"/>
          <a:stretch/>
        </p:blipFill>
        <p:spPr>
          <a:xfrm>
            <a:off x="2629080" y="1916280"/>
            <a:ext cx="2158920" cy="1618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89" name="Picture 17" descr="sosna_pospolita"/>
          <p:cNvPicPr/>
          <p:nvPr/>
        </p:nvPicPr>
        <p:blipFill>
          <a:blip r:embed="rId8"/>
          <a:stretch/>
        </p:blipFill>
        <p:spPr>
          <a:xfrm>
            <a:off x="4932360" y="1916280"/>
            <a:ext cx="216072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490" name="Picture 18" descr="świerk_kłujący"/>
          <p:cNvPicPr/>
          <p:nvPr/>
        </p:nvPicPr>
        <p:blipFill>
          <a:blip r:embed="rId9"/>
          <a:stretch/>
        </p:blipFill>
        <p:spPr>
          <a:xfrm>
            <a:off x="2627280" y="4030560"/>
            <a:ext cx="2160720" cy="16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sp>
        <p:nvSpPr>
          <p:cNvPr id="491" name="Text Box 19"/>
          <p:cNvSpPr/>
          <p:nvPr/>
        </p:nvSpPr>
        <p:spPr>
          <a:xfrm>
            <a:off x="696240" y="35733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CZA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149440" y="357336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OSNA ZWYCZAJ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942280" y="57340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KŁUJĄ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5356080" y="573408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 POSPO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7262640" y="422100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PSEUDOJAGOD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ISU POSPOLITE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(OSNÓWKA JE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DAL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54620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99ff33"/>
                </a:solidFill>
                <a:latin typeface="Verdana"/>
              </a:rPr>
              <a:t>EGZOTYCZNE GATUNKI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1979640" y="33336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663300">
                      <a:alpha val="80000"/>
                    </a:srgbClr>
                  </a:outerShdw>
                </a:effectLst>
                <a:latin typeface="Impact"/>
              </a:rPr>
              <a:t>Drzewa iglast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6633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108000" y="115920"/>
            <a:ext cx="8964720" cy="666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98960" y="573408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DLICA JAPO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849400" y="357336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NUTKAJ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7164720" y="393372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SZYSZKA CYPRYS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512280" y="357336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CYPRYSIK LAWS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141520" y="357336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AŁOWIEC SABIŃ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961360" y="57340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ŚWIERK SERBS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5180400" y="5734080"/>
            <a:ext cx="172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JODŁA KOREAŃ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7266240" y="42228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99ff33"/>
                </a:solidFill>
                <a:latin typeface="Arial"/>
              </a:rPr>
              <a:t>DAGLEZJA ZIEL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1" descr="cyprysik_lawsona"/>
          <p:cNvPicPr/>
          <p:nvPr/>
        </p:nvPicPr>
        <p:blipFill>
          <a:blip r:embed="rId3"/>
          <a:stretch/>
        </p:blipFill>
        <p:spPr>
          <a:xfrm>
            <a:off x="324000" y="1916280"/>
            <a:ext cx="2160360" cy="16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08" name="Picture 23" descr="cyprysik_nutkajski"/>
          <p:cNvPicPr/>
          <p:nvPr/>
        </p:nvPicPr>
        <p:blipFill>
          <a:blip r:embed="rId4"/>
          <a:stretch/>
        </p:blipFill>
        <p:spPr>
          <a:xfrm>
            <a:off x="262728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663300"/>
            </a:outerShdw>
          </a:effectLst>
        </p:spPr>
      </p:pic>
      <p:pic>
        <p:nvPicPr>
          <p:cNvPr id="509" name="Picture 26" descr="daglezja_zielona"/>
          <p:cNvPicPr/>
          <p:nvPr/>
        </p:nvPicPr>
        <p:blipFill>
          <a:blip r:embed="rId5"/>
          <a:stretch/>
        </p:blipFill>
        <p:spPr>
          <a:xfrm>
            <a:off x="7236000" y="1916280"/>
            <a:ext cx="1674720" cy="223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0" name="Picture 27" descr="jałowiec_sabiński"/>
          <p:cNvPicPr/>
          <p:nvPr/>
        </p:nvPicPr>
        <p:blipFill>
          <a:blip r:embed="rId6"/>
          <a:stretch/>
        </p:blipFill>
        <p:spPr>
          <a:xfrm>
            <a:off x="4932360" y="1916280"/>
            <a:ext cx="2193840" cy="164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1" name="Picture 28" descr="jodła_koreańska_szyszka_2"/>
          <p:cNvPicPr/>
          <p:nvPr/>
        </p:nvPicPr>
        <p:blipFill>
          <a:blip r:embed="rId7"/>
          <a:stretch/>
        </p:blipFill>
        <p:spPr>
          <a:xfrm>
            <a:off x="493236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2" name="Picture 29" descr="świeek_serbski"/>
          <p:cNvPicPr/>
          <p:nvPr/>
        </p:nvPicPr>
        <p:blipFill>
          <a:blip r:embed="rId8"/>
          <a:stretch/>
        </p:blipFill>
        <p:spPr>
          <a:xfrm>
            <a:off x="262728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  <p:pic>
        <p:nvPicPr>
          <p:cNvPr id="513" name="Picture 30" descr="szydlica_japońska"/>
          <p:cNvPicPr/>
          <p:nvPr/>
        </p:nvPicPr>
        <p:blipFill>
          <a:blip r:embed="rId9"/>
          <a:stretch/>
        </p:blipFill>
        <p:spPr>
          <a:xfrm>
            <a:off x="290520" y="4005360"/>
            <a:ext cx="21938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3:47:50Z</dcterms:created>
  <dc:creator>Asia</dc:creator>
  <dc:description/>
  <dc:language>en-US</dc:language>
  <cp:lastModifiedBy>Komputer_2</cp:lastModifiedBy>
  <dcterms:modified xsi:type="dcterms:W3CDTF">2014-11-17T12:29:29Z</dcterms:modified>
  <cp:revision>42</cp:revision>
  <dc:subject/>
  <dc:title>Tajemnice drzew</dc:title>
</cp:coreProperties>
</file>